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128C-247C-48E4-A8BF-8707BCCA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9F28-EA99-45DE-B191-8D8B1256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205-AA7C-450A-A418-B8A4E844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C18-3CF6-402C-AED6-5D63538F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D814-6820-4B97-8918-536BFCCF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F8E6-6948-42EF-92A3-5C7601BF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0FE4-07F1-495C-A29B-AE80B1F3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C244-4542-458A-8485-5A058571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A5D5-27CC-4DE7-8ECE-D9F80747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54C7-3529-4D47-A0E5-994E99F0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64B5-8F73-4584-A504-D5796BAF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303-B352-4D76-AEC8-A79FAE9E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005F-8FD4-4204-AC01-66E0DB53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B32E-C763-425C-B2F8-EDB8C776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CEA1-FBB0-46DE-8AE9-2BABECE4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E971-2480-4D78-A1F4-A2C83056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2D11-5F35-4C37-B434-DBAE63BB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5FD-D701-49FB-BB33-0F8A0975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9BD-EF16-4434-A62E-2CF7BE96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271-309C-4F24-B533-6AA59156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712-9C0E-4C16-B547-3BD76B46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096-21B1-47C9-8EB2-1077B6C1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66A-92C1-47F3-A31E-9CF08369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74E-A7F8-4134-8C0D-25FE434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D4CD-7CDD-4B50-92BF-D32773064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1AA7-13E5-4F5D-956A-AFD36434E3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olympics.org.uk/beijing2008/images/sports/Badminton.jpg&amp;imgrefurl=http://www.olympics.org.uk/beijing2008/SportAbout.aspx%3Fgt%3Ds%26sp%3DBD&amp;usg=__lnxQPzKx78UaCk5LZmBCnTRKlvY=&amp;h=400&amp;w=300&amp;sz=47&amp;hl=en&amp;start=6&amp;tbnid=ueOwDdJIsJBqNM:&amp;tbnh=124&amp;tbnw=93&amp;prev=/images%3Fq%3Dbadminton%26gbv%3D2%26hl%3Den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janeheller.mlblogs.com/badminton_hitting.jpg&amp;imgrefurl=http://janeheller.mlblogs.com/archives/2009/02/&amp;usg=__L5xJO5_uAoqsdBCh0kFdxZS4Z48=&amp;h=300&amp;w=416&amp;sz=30&amp;hl=en&amp;start=7&amp;tbnid=BRGeBk39umhtgM:&amp;tbnh=90&amp;tbnw=125&amp;prev=/images%3Fq%3Dbadminton%26gbv%3D2%26hl%3Den%26sa%3D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Skills and Techniqu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Lesson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iss Doog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29000"/>
            <a:ext cx="2987640" cy="3429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3716280"/>
            <a:ext cx="3203640" cy="3141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2484360" y="0"/>
            <a:ext cx="4608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Learning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y the end of the lesson you should understa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at skills can be classified into different catego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information processing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importance of the Model Perfo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Classification of Ski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airs T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ork sheet:  Select a Skill, and Identify which sentence defines this skill and then give an exa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Classification Of Ski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/ Closed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ple/ Complex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rete/ Serial or Continu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Information Processing 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pu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this is information you receive which tells you a skill needs to be per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ecision making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this is when you decide how best to perform this sk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utpu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this is you actually performing the sk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Feedbac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this is you getting feedback on the outcome by comparing with the desired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Model Perform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is 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odel Performer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are the benefits of using 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odel Performer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7:52:51Z</dcterms:created>
  <dc:creator>DooganS</dc:creator>
  <dc:description/>
  <dc:language>en-US</dc:language>
  <cp:lastModifiedBy>DooganS</cp:lastModifiedBy>
  <dcterms:modified xsi:type="dcterms:W3CDTF">2009-10-27T08:18:50Z</dcterms:modified>
  <cp:revision>2</cp:revision>
  <dc:subject/>
  <dc:title>Skills and Techniques</dc:title>
</cp:coreProperties>
</file>